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3C1F-A879-4C37-B2DB-60FD1FDDD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165B-0435-4128-8B6C-E08309616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F92C-011F-4E26-88AF-67232A444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A795-85CF-492F-B203-697454056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84B3-C5F0-4B64-A407-3D0FFEC02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004-7357-4C6F-B463-895A213D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D20-F3EA-4553-97E1-0AED9B50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8A2-150A-4283-AD39-0F956521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35C-78FB-4969-B224-16ED9F77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FB00-551B-4B8C-B6B8-57228E2B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7C26-DCF3-4F74-A9DC-A0F56C52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9390-1C5C-44FF-9128-A4AC409E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13A0-9F1F-4246-8B63-EDC20A46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3826-0D79-4AE1-8D6E-EB18F84F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E51E-A4A4-480D-8264-376666D8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2487-CE25-47FA-B864-90073F94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7D9-0869-4A81-BAAC-8FB3BBE5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170D-6465-404C-8A52-EBE14F3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AF9F-AA56-46D5-9297-7C7E09CB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9060-95A6-4931-AD67-EDF56B0D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DAC0-017F-4D9B-9E97-D0DB85BA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31F8-5700-4B4D-B863-0097E729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859D-19FE-44D3-9C7E-565F946E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42D2C-3A3A-46CA-A38F-B634DDDF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F9E85-C0EF-4FF1-B92D-EF080A74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45597-1FB1-4079-97B9-35FB5000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C00E-15CF-48F9-9F86-E3FDDD7B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2F4-0CE5-4FAE-A6B7-02B3F7F3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1A6F-FF01-4A1C-98C0-40B9A29A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A8D9-6E31-4B1C-AFB1-769F2BCF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BCF64-AD23-4A45-95E1-D9465E01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8CD8C-BD8E-4FE2-A1EB-0DD5F3AE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A32B-DCE7-477F-82B1-A038B34D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074E-B3C1-4664-B71A-6458936E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ECD0E-785F-4937-BC15-B87A7906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8B003-CE61-44D4-B32F-891E7FEE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2A77D-3999-40D6-B17A-02A0265F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86EE2-2CB5-4591-BC42-0E6C670D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59B-9463-4120-9ED7-77676028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7717-B7E9-434F-B744-6D7B421F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B1691-3276-43E8-A9C3-EE2950B2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39126-AA8F-45AB-91B1-5E0D7605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08E07-812E-4344-B363-75E912CE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939F4-1B8D-4EBC-B4D8-70C8DC92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11095-A2A2-4066-8A0F-A1D262D3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313A-3C9B-4DD3-AD22-2DFCF8B7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D2CB-F67D-45FC-8D5B-74B3FEDD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969B0-6685-4063-9405-0BA99306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1800-3D06-4348-B878-1A7C6475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5FF-A202-4734-B416-9FF9C567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9B194-03A8-4B15-88EB-0E6F1892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C77B4-8420-41E7-8BB2-30911CD0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7B346-5123-488F-91CF-0710AA46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B843C-90AA-45C5-8CE9-156B12A1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547A1-E19A-4679-9BC9-55673FCA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CBAFF-9487-4BF4-918E-FC40AEFA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1DB66-A3AA-4288-AFA3-59550D3E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5BD36-C4A2-4735-96AA-94DC8583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B48AB-E74A-4A49-9DBA-659A0A68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7B1B2-92D0-4777-8FD3-A1291E14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313-665C-47A7-AC29-B03326FE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97526-258B-4A4F-93BD-8EB9BE56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A0E-0648-495A-85F8-AB48F55F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781-52A3-42F9-9055-890FC0A8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6C8-356D-47C1-AA4C-C788E520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08D8-0DB6-41F4-9378-E4B0D5F9A69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006-3704-400B-89D1-2B7229F5733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8836-9714-4D83-B1AF-B04F9ED884F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756D-F876-47E7-84E7-C83FCAAB0C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151B-B3CF-4752-83C3-CC2DAFAE6C6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bysoft.com/essays/userInterfaceDesign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User Interface Desig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2133720" y="6172200"/>
            <a:ext cx="5410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ambysoft.com/essays/userInterfaceDesign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UI Tip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 consist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navig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 color sparing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ign fiel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ow for erro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uitive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void overcrow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UI Design Principl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ucture: the overall UI architec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plicity: Make tasks easy to d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ibility: Keep all needed tasks visib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eedback: Keep the user inform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lerance: allow undoing and redo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\\thor\grads\mshouman\Desktop\Drawing1.jpg"/>
          <p:cNvPicPr/>
          <p:nvPr/>
        </p:nvPicPr>
        <p:blipFill>
          <a:blip r:embed="rId1"/>
          <a:stretch/>
        </p:blipFill>
        <p:spPr>
          <a:xfrm>
            <a:off x="1752480" y="380880"/>
            <a:ext cx="58676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20:11:14Z</dcterms:created>
  <dc:creator>mshouman</dc:creator>
  <dc:description/>
  <dc:language>en-US</dc:language>
  <cp:lastModifiedBy>mshouman</cp:lastModifiedBy>
  <dcterms:modified xsi:type="dcterms:W3CDTF">2009-04-06T20:20:36Z</dcterms:modified>
  <cp:revision>2</cp:revision>
  <dc:subject/>
  <dc:title>User Interface Design</dc:title>
</cp:coreProperties>
</file>